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D1F-2DE5-4228-8E75-F32090D5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300-DA8D-401D-A9A1-0262C72C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BFF-F063-4C22-B32F-80D8E098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C03-F6EF-4173-86D7-8137FA20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C80-FF3E-4FA7-8F31-ED1E65E2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655-9A64-4A13-BF35-C72CAF9C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506-3B58-4C7D-88F7-48293D2E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F86-1EFA-4A1D-A113-F74F79B2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230-1DAA-46B4-AA70-99C7F743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5D2-66E8-4601-B766-4975C989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D50-E3C3-4BAB-84D4-EFC7F167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489-C34F-4383-B9F6-43B44A88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7114-9BBD-4EBB-B199-2B99AEF18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shi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0280" y="5029200"/>
            <a:ext cx="1981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v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8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.#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914400"/>
            <a:ext cx="5715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-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vity-Fight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llip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3581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434340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Night walk, March 11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4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Weyuan S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 found that Glycyrrhize uralensis (licorice roo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 said that patents should have one after breakfast and before bed for ten days stra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 was also a native to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well i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 it be better if the medicine was a lollip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aef1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Cavity-Fighting Lollip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vention is sugar-free and orange flav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cavity fighting h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 ride of tooth dec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hts bacteria that decays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find it at certain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d54b"/>
            </a:gs>
            <a:gs pos="100000">
              <a:srgbClr val="e1f10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Shi"/>
          <p:cNvPicPr/>
          <p:nvPr/>
        </p:nvPicPr>
        <p:blipFill>
          <a:blip r:embed="rId1"/>
          <a:srcRect l="51622" t="0" r="9680" b="0"/>
          <a:stretch/>
        </p:blipFill>
        <p:spPr>
          <a:xfrm>
            <a:off x="4191120" y="205740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Shi"/>
          <p:cNvPicPr/>
          <p:nvPr/>
        </p:nvPicPr>
        <p:blipFill>
          <a:blip r:embed="rId2"/>
          <a:srcRect l="4955" t="31393" r="64525" b="21587"/>
          <a:stretch/>
        </p:blipFill>
        <p:spPr>
          <a:xfrm>
            <a:off x="990720" y="2362320"/>
            <a:ext cx="2819160" cy="133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5486400"/>
            <a:ext cx="685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vity-Fighting Lollip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sh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6858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5:18Z</dcterms:created>
  <dc:creator>install</dc:creator>
  <dc:description/>
  <dc:language>en-US</dc:language>
  <cp:lastModifiedBy>install</cp:lastModifiedBy>
  <dcterms:modified xsi:type="dcterms:W3CDTF">2010-03-22T16:07:23Z</dcterms:modified>
  <cp:revision>12</cp:revision>
  <dc:subject/>
  <dc:title>Slide 1</dc:title>
</cp:coreProperties>
</file>